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B7E-D89B-4E1A-8C8E-462BEDBC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235-B188-40B4-80DB-B030327B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810-452C-4A6C-A21F-DCBBEB24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447-0D62-482B-A3C0-D76B64D9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67C-6787-4A60-91ED-079DDB5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50D-E241-4BAA-A0F4-A59A90C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9ED-FCB3-401B-BDC0-BFE9EA9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F5D-B0F8-49AC-A524-4BEED27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EE6-D16F-4344-A8E9-9C6EBE5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422-D4F8-43E1-B510-6F52A764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08C-E3FB-4043-8C5A-FEB34757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198-B47D-45BF-88D9-513A218D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DC89-2723-48D9-A5E6-1C76385D568F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6A6-1323-40D5-8764-337A486541AD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70520" y="0"/>
            <a:ext cx="4173480" cy="636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3467160" cy="154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30120" y="3486240"/>
            <a:ext cx="416556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600200"/>
            <a:ext cx="9144000" cy="1373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frame_title N2+ file b MCD -1- minus 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addlines operator -1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  <a:ea typeface="MS Mincho"/>
              </a:rPr>
              <a:t>spectrum operator 1- scale 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3356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350532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cc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F       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03120" y="685800"/>
            <a:ext cx="216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348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5736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158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03120" y="685800"/>
            <a:ext cx="216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7160" y="68112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-pol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760" y="3657600"/>
            <a:ext cx="220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ft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8560" y="3657600"/>
            <a:ext cx="25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 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0574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6280" y="5335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6280" y="350532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167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with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38440" y="53352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i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2440" y="35812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iO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019400" cy="5543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470560" y="762120"/>
            <a:ext cx="3673440" cy="5600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in Ni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821120" cy="6324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 in Mn ox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12845" t="63375" r="12845" b="10696"/>
          <a:stretch/>
        </p:blipFill>
        <p:spPr>
          <a:xfrm>
            <a:off x="5181480" y="3989520"/>
            <a:ext cx="3962520" cy="23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685800"/>
            <a:ext cx="9144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the rcg, rac, ban and plo files of als6ni2x1 to exct1 (or any other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calculation from N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Mn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Start by making the rcn-files for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and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s. Run TTRCN on them and replace the Ni parameters in the rcg-file with the M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TTRCG, TTRAC and TTBAN on the Mn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lot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exct1.ban in order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spectrum of LaMnO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Verdan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harge Transfer on M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176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73760" y="457200"/>
            <a:ext cx="4170240" cy="592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840" y="685800"/>
            <a:ext cx="22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2+: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20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8160" y="3678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35053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0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8160" y="3678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3000" y="35053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"/>
            <a:ext cx="9144000" cy="2590920"/>
          </a:xfrm>
          <a:prstGeom prst="rect">
            <a:avLst/>
          </a:prstGeom>
          <a:solidFill>
            <a:srgbClr val="e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609480"/>
            <a:ext cx="9143640" cy="2401560"/>
            <a:chOff x="0" y="609480"/>
            <a:chExt cx="9143640" cy="2401560"/>
          </a:xfrm>
        </p:grpSpPr>
        <p:grpSp>
          <p:nvGrpSpPr>
            <p:cNvPr id="117" name=""/>
            <p:cNvGrpSpPr/>
            <p:nvPr/>
          </p:nvGrpSpPr>
          <p:grpSpPr>
            <a:xfrm>
              <a:off x="6840" y="615240"/>
              <a:ext cx="9128160" cy="2388960"/>
              <a:chOff x="6840" y="615240"/>
              <a:chExt cx="9128160" cy="23889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6840" y="615240"/>
                <a:ext cx="1825560" cy="821880"/>
                <a:chOff x="6840" y="615240"/>
                <a:chExt cx="1825560" cy="821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090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8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832760" y="615240"/>
                <a:ext cx="1824840" cy="821880"/>
                <a:chOff x="1832760" y="615240"/>
                <a:chExt cx="1824840" cy="821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9342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327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658320" y="615240"/>
                <a:ext cx="1825560" cy="821880"/>
                <a:chOff x="3658320" y="615240"/>
                <a:chExt cx="1825560" cy="821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76056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5832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484240" y="615240"/>
                <a:ext cx="1825560" cy="821880"/>
                <a:chOff x="5484240" y="615240"/>
                <a:chExt cx="1825560" cy="821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5864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X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4842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310160" y="615240"/>
                <a:ext cx="1824840" cy="821880"/>
                <a:chOff x="7310160" y="615240"/>
                <a:chExt cx="1824840" cy="82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4116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MC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3101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840" y="1437480"/>
                <a:ext cx="1825560" cy="783000"/>
                <a:chOff x="6840" y="1437480"/>
                <a:chExt cx="1825560" cy="783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90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8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832760" y="1437480"/>
                <a:ext cx="1824840" cy="783000"/>
                <a:chOff x="1832760" y="1437480"/>
                <a:chExt cx="1824840" cy="783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9342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 (*R</a:t>
                  </a:r>
                  <a:r>
                    <a:rPr b="1" lang="en-US" sz="2400" spc="-1" strike="noStrike" baseline="30000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/9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327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58320" y="1437480"/>
                <a:ext cx="1825560" cy="783000"/>
                <a:chOff x="3658320" y="1437480"/>
                <a:chExt cx="1825560" cy="783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6056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832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484240" y="1437480"/>
                <a:ext cx="1825560" cy="783000"/>
                <a:chOff x="5484240" y="1437480"/>
                <a:chExt cx="1825560" cy="7830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864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42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310160" y="1437480"/>
                <a:ext cx="1824840" cy="783000"/>
                <a:chOff x="7310160" y="1437480"/>
                <a:chExt cx="1824840" cy="783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4116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101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840" y="2220840"/>
                <a:ext cx="1825560" cy="783360"/>
                <a:chOff x="6840" y="2220840"/>
                <a:chExt cx="1825560" cy="7833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90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832760" y="2220840"/>
                <a:ext cx="1824840" cy="783360"/>
                <a:chOff x="1832760" y="2220840"/>
                <a:chExt cx="1824840" cy="783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9342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327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58320" y="2220840"/>
                <a:ext cx="1825560" cy="783360"/>
                <a:chOff x="3658320" y="2220840"/>
                <a:chExt cx="1825560" cy="783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6056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5832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484240" y="2220840"/>
                <a:ext cx="1825560" cy="783360"/>
                <a:chOff x="5484240" y="2220840"/>
                <a:chExt cx="1825560" cy="783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5864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842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310160" y="2220840"/>
                <a:ext cx="1824840" cy="783360"/>
                <a:chOff x="7310160" y="2220840"/>
                <a:chExt cx="1824840" cy="783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4116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101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0" y="609480"/>
              <a:ext cx="9143640" cy="24015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6858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32120" y="609480"/>
            <a:ext cx="1489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5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3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2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3d spin-orbit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multi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7200"/>
            <a:ext cx="9144000" cy="2590920"/>
          </a:xfrm>
          <a:prstGeom prst="rect">
            <a:avLst/>
          </a:prstGeom>
          <a:solidFill>
            <a:srgbClr val="e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09480"/>
            <a:ext cx="9143640" cy="2401560"/>
            <a:chOff x="0" y="609480"/>
            <a:chExt cx="9143640" cy="2401560"/>
          </a:xfrm>
        </p:grpSpPr>
        <p:grpSp>
          <p:nvGrpSpPr>
            <p:cNvPr id="172" name=""/>
            <p:cNvGrpSpPr/>
            <p:nvPr/>
          </p:nvGrpSpPr>
          <p:grpSpPr>
            <a:xfrm>
              <a:off x="6840" y="615240"/>
              <a:ext cx="9128160" cy="2388960"/>
              <a:chOff x="6840" y="615240"/>
              <a:chExt cx="9128160" cy="23889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840" y="615240"/>
                <a:ext cx="1825560" cy="821880"/>
                <a:chOff x="6840" y="615240"/>
                <a:chExt cx="1825560" cy="821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090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8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1832760" y="615240"/>
                <a:ext cx="1824840" cy="821880"/>
                <a:chOff x="1832760" y="615240"/>
                <a:chExt cx="1824840" cy="8218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9342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327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58320" y="615240"/>
                <a:ext cx="1825560" cy="821880"/>
                <a:chOff x="3658320" y="615240"/>
                <a:chExt cx="1825560" cy="8218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76056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5832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84240" y="615240"/>
                <a:ext cx="1825560" cy="821880"/>
                <a:chOff x="5484240" y="615240"/>
                <a:chExt cx="1825560" cy="8218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86480" y="615240"/>
                  <a:ext cx="162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X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84240" y="615240"/>
                  <a:ext cx="182556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310160" y="615240"/>
                <a:ext cx="1824840" cy="821880"/>
                <a:chOff x="7310160" y="615240"/>
                <a:chExt cx="1824840" cy="8218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411680" y="615240"/>
                  <a:ext cx="162108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MC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10160" y="615240"/>
                  <a:ext cx="1824840" cy="82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840" y="1437480"/>
                <a:ext cx="1825560" cy="783000"/>
                <a:chOff x="6840" y="1437480"/>
                <a:chExt cx="1825560" cy="783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090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32760" y="1437480"/>
                <a:ext cx="1824840" cy="783000"/>
                <a:chOff x="1832760" y="1437480"/>
                <a:chExt cx="1824840" cy="783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342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 (*R</a:t>
                  </a:r>
                  <a:r>
                    <a:rPr b="1" lang="en-US" sz="2400" spc="-1" strike="noStrike" baseline="30000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/9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327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658320" y="1437480"/>
                <a:ext cx="1825560" cy="783000"/>
                <a:chOff x="3658320" y="1437480"/>
                <a:chExt cx="1825560" cy="783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6056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5832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484240" y="1437480"/>
                <a:ext cx="1825560" cy="783000"/>
                <a:chOff x="5484240" y="1437480"/>
                <a:chExt cx="1825560" cy="783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586480" y="1437480"/>
                  <a:ext cx="162072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84240" y="1437480"/>
                  <a:ext cx="182556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310160" y="1437480"/>
                <a:ext cx="1824840" cy="783000"/>
                <a:chOff x="7310160" y="1437480"/>
                <a:chExt cx="1824840" cy="783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411680" y="1437480"/>
                  <a:ext cx="162108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+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10160" y="1437480"/>
                  <a:ext cx="1824840" cy="78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840" y="2220840"/>
                <a:ext cx="1825560" cy="783360"/>
                <a:chOff x="6840" y="2220840"/>
                <a:chExt cx="1825560" cy="783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090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L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832760" y="2220840"/>
                <a:ext cx="1824840" cy="783360"/>
                <a:chOff x="1832760" y="2220840"/>
                <a:chExt cx="1824840" cy="783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342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8327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658320" y="2220840"/>
                <a:ext cx="1825560" cy="783360"/>
                <a:chOff x="3658320" y="2220840"/>
                <a:chExt cx="1825560" cy="783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6056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65832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84240" y="2220840"/>
                <a:ext cx="1825560" cy="783360"/>
                <a:chOff x="5484240" y="2220840"/>
                <a:chExt cx="1825560" cy="783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586480" y="2220840"/>
                  <a:ext cx="162072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84240" y="2220840"/>
                  <a:ext cx="182556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310160" y="2220840"/>
                <a:ext cx="1824840" cy="783360"/>
                <a:chOff x="7310160" y="2220840"/>
                <a:chExt cx="1824840" cy="783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411680" y="2220840"/>
                  <a:ext cx="1621080" cy="78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Verdana"/>
                      <a:ea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310160" y="2220840"/>
                  <a:ext cx="1824840" cy="783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" name=""/>
            <p:cNvSpPr/>
            <p:nvPr/>
          </p:nvSpPr>
          <p:spPr>
            <a:xfrm>
              <a:off x="0" y="609480"/>
              <a:ext cx="9143640" cy="24015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382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9320" y="60948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o 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3280" y="6094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C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99360" y="365760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+ cryst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06960" y="358128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M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600200"/>
            <a:ext cx="12420720" cy="703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2    4    1    1  INTER2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shell03000000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spin03000000 orbit03000000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Add spin03 and orbit03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09480"/>
            <a:ext cx="9144000" cy="10505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D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C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HAMILT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HEL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P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ORB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P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ORB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1- left    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 1- &gt;  1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-1- right   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 1- &gt; -1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- parallel    transi PRINTTR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&gt; ^0- &gt;  0- 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-4572000"/>
            <a:ext cx="9144000" cy="11059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D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C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HAMILT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HEL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SP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ORB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0+ &gt; 0 0+ &gt; 0+    &gt; 0+  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0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4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2+ &gt; 0 2+ &gt; 0+    &gt; 0+  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SPI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OPER ORB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1+ &gt; 0 1+ &gt; ^0+   &gt; 0+  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1- left    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 1- &gt;  1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-1- right   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 1- &gt; -1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- parallel    transi PRINTTR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ope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1- &gt; 0 1- &gt; ^0- &gt;  0-  1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7ni2a.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X-MC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2:07:30Z</dcterms:modified>
  <cp:revision>275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